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37A6-8CD2-4EDD-BC11-E2C84A32C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E75B-C960-4DA8-9073-47ABF50B1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35A9-C860-406A-A5BE-7D658649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948A-B7F2-454E-A336-F3A34F1C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CCC4-BF0B-415C-89A4-2EB7B26CE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20CF-DAD7-4FFD-891A-011D20F4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677C-2A34-41C6-AA93-D95F4517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573C-A063-4DC7-A507-4A185D25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E1D5-0E4C-4992-81A6-902B128C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1090-ACD2-4822-8A02-A9AE2FA3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1D9-B234-4216-A0D3-2EEAF969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377A-8506-4063-B03C-F9ED71D6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4094-66F2-4050-8DAF-70997DD2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EE17-103A-415F-B648-42BD6C42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9173-988C-4DE7-8810-235CE7479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7.png"/><Relationship Id="rId9" Type="http://schemas.openxmlformats.org/officeDocument/2006/relationships/image" Target="../media/image1.pn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11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yssa Ed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lyssa Edmond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lyssa Edmo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lyssa Edmo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ónde quieres vivi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,y Buenos dias, Mi nombre es Alyssa. Yo vivo en Nueva York. Yo tengo catorce años. Yo tengo una hermana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. Adio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4" descr="Photo on 2011-10-21 at 13.53 #2.jpg"/>
          <p:cNvPicPr/>
          <p:nvPr/>
        </p:nvPicPr>
        <p:blipFill>
          <a:blip r:embed="rId6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3886200"/>
            <a:ext cx="3962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Alys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Yo quero vivir en Itali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20 minute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3200400"/>
            <a:ext cx="3962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Naee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sta bien, Yo quero vivir en Lond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8" descr="Photo on 2011-10-21 at 13.46.jpg"/>
          <p:cNvPicPr/>
          <p:nvPr/>
        </p:nvPicPr>
        <p:blipFill>
          <a:blip r:embed="rId7"/>
          <a:stretch/>
        </p:blipFill>
        <p:spPr>
          <a:xfrm>
            <a:off x="1962000" y="4492800"/>
            <a:ext cx="648000" cy="938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2743200" y="2514600"/>
            <a:ext cx="3962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Kael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ero vivir en Hawaii, Alyssa y t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2743200" y="4572000"/>
            <a:ext cx="39625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No, Italia no es una buena parte donde vivir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9" descr="Photo on 2011-10-21 at 13.53 #2.jpg"/>
          <p:cNvPicPr/>
          <p:nvPr/>
        </p:nvPicPr>
        <p:blipFill>
          <a:blip r:embed="rId8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2743200" y="5181480"/>
            <a:ext cx="3962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ago querer es vivir en Sp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0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2" descr="Photo on 2011-10-21 at 13.46.jpg"/>
          <p:cNvPicPr/>
          <p:nvPr/>
        </p:nvPicPr>
        <p:blipFill>
          <a:blip r:embed="rId9"/>
          <a:stretch/>
        </p:blipFill>
        <p:spPr>
          <a:xfrm>
            <a:off x="1962000" y="6016680"/>
            <a:ext cx="648000" cy="9381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7"/>
          <p:cNvSpPr/>
          <p:nvPr/>
        </p:nvSpPr>
        <p:spPr>
          <a:xfrm>
            <a:off x="2743200" y="6019920"/>
            <a:ext cx="39625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ero vivir en Califor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0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6"/>
          <p:cNvSpPr/>
          <p:nvPr/>
        </p:nvSpPr>
        <p:spPr>
          <a:xfrm>
            <a:off x="4267080" y="1905120"/>
            <a:ext cx="198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3" descr="Photo on 2011-11-29 at 13.54.jpg"/>
          <p:cNvPicPr/>
          <p:nvPr/>
        </p:nvPicPr>
        <p:blipFill>
          <a:blip r:embed="rId10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Photo on 12-6-12 at 9.37 AM.jpg"/>
          <p:cNvPicPr/>
          <p:nvPr/>
        </p:nvPicPr>
        <p:blipFill>
          <a:blip r:embed="rId11"/>
          <a:stretch/>
        </p:blipFill>
        <p:spPr>
          <a:xfrm>
            <a:off x="1962000" y="2514600"/>
            <a:ext cx="704880" cy="533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Photo on 12-6-12 at 9.45 AM.jpg"/>
          <p:cNvPicPr/>
          <p:nvPr/>
        </p:nvPicPr>
        <p:blipFill>
          <a:blip r:embed="rId12"/>
          <a:stretch/>
        </p:blipFill>
        <p:spPr>
          <a:xfrm>
            <a:off x="1905120" y="3200400"/>
            <a:ext cx="723960" cy="482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Photo on 12-6-12 at 9.46 AM.jpg"/>
          <p:cNvPicPr/>
          <p:nvPr/>
        </p:nvPicPr>
        <p:blipFill>
          <a:blip r:embed="rId13"/>
          <a:stretch/>
        </p:blipFill>
        <p:spPr>
          <a:xfrm>
            <a:off x="1905120" y="380988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Photo on 12-6-12 at 9.46 AM.jpg"/>
          <p:cNvPicPr/>
          <p:nvPr/>
        </p:nvPicPr>
        <p:blipFill>
          <a:blip r:embed="rId14"/>
          <a:stretch/>
        </p:blipFill>
        <p:spPr>
          <a:xfrm>
            <a:off x="533520" y="457200"/>
            <a:ext cx="12571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4:59:40Z</dcterms:modified>
  <cp:revision>110</cp:revision>
  <dc:subject/>
  <dc:title>Profile</dc:title>
</cp:coreProperties>
</file>